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C6C0-AA53-4690-8DA0-4617F5A13D1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CC43-9F99-4926-B964-FCC3E2D69F4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5472-3842-4304-93C9-A9CBE2C209C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4861-4483-4CCB-A4DF-1FBE3286226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BB78-417C-488F-93CA-2A38EB9251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" spc="-1" strike="noStrike">
                <a:solidFill>
                  <a:srgbClr val="000000"/>
                </a:solidFill>
                <a:latin typeface="Calibri"/>
              </a:rPr>
              <a:t>http://www.science.smith.edu/departments/Biology/Bio231/glycolysis.html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DCBE-6C21-486F-BBB3-13139DA49D7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D6D-3860-4F2C-903F-7C362E57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BD7-73A9-4068-B19D-24444181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CC1-FE3F-4D87-A0A7-84981957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534-D4D0-4ECE-9EB1-90ABBF07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23D-EC8E-4627-AF6F-140621AC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2FC-C4AA-487C-9F55-64632A35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3F2-AFBA-4825-BF40-837F68EA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224-AABE-4BCD-A684-CB16CBD8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C01-850E-48A4-AAD2-399CF87E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FA7-9AAB-4048-80CC-5BC44EB9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832-125D-4055-9A73-C79BA8C1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BCB-A3C8-48B0-96FB-3E99FEB1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EBCB-C62E-49A1-91B6-222990F079B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pay-off (#6-1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 For ea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3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, one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lecule is reduced to NADH and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3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hosphorylate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3-biphosphoglyce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3-B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osphorylates ADP to ATP through substrate-level phosphorylation, resulting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-phosphoglycerate (3P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somerize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Text Placeholder 2" descr=""/>
          <p:cNvPicPr/>
          <p:nvPr/>
        </p:nvPicPr>
        <p:blipFill>
          <a:blip r:embed="rId1"/>
          <a:stretch/>
        </p:blipFill>
        <p:spPr>
          <a:xfrm>
            <a:off x="1717560" y="4572000"/>
            <a:ext cx="5707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pay-off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#6-1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P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osphoenolpyruvate (PE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removal of a water molec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osphorylates ADP to ATP through substrate-level phosphorylation, resulting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Text Placeholder 2" descr=""/>
          <p:cNvPicPr/>
          <p:nvPr/>
        </p:nvPicPr>
        <p:blipFill>
          <a:blip r:embed="rId1"/>
          <a:stretch/>
        </p:blipFill>
        <p:spPr>
          <a:xfrm>
            <a:off x="1717560" y="4594320"/>
            <a:ext cx="5707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3605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ycolysis 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 of Glycolysis (simplifie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http://www.science.smith.edu/departments/Biology/Bio231/glycolysis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ly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highered.mcgraw-hill.com/sites/0072507470/student_view0/chapter25/animation__how_glycolysis_work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lycolysis Overall Reac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lucose + 2 NAD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+ 2 ADP + 2 P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 pyruvate + 2 NADH + 2 H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+ 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>
            <a:off x="3114360" y="3198960"/>
            <a:ext cx="2143800" cy="2160"/>
          </a:xfrm>
          <a:prstGeom prst="straightConnector1">
            <a:avLst/>
          </a:prstGeom>
          <a:ln cap="sq" w="63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nergy Yield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lycolysis produces 4 molecules of ATP per molecule of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 molecules of ATP are used to activate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overall net yield of </a:t>
            </a: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2 ATP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per glucos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ucose + 2 NA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2 ADP + 2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---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pyruvate + 2 NADH +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nergy Yield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lycolysis produces 2 molecules of NADH per molecule of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NADH is used in a later stage of aerobic cellular respiration to generate ATP through oxidative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yourself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this quiz:  http://www.zerobio.com/biofax12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rther explor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ant more detail, this animation shows the enzymes involved in glycolysis as well as chemical structure of the  intermedia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programs.northlandcollege.edu/biology/Biology1111/animations/glycolysi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almost all living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in the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aerob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it does not require any 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stage of aerobic cellular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enzyme-catalyzed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-carbon glucose is split into two 3-carbon pyruvate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energy gain of 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NA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reduced to NAD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2975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335772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Glycolysis Overview</a:t>
            </a:r>
            <a:br>
              <a:rPr sz="4400"/>
            </a:br>
            <a:br>
              <a:rPr sz="900"/>
            </a:br>
            <a:br>
              <a:rPr sz="9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home.jam.rr.com/cjohnson1/glycolysis2.jpg"/>
          <p:cNvPicPr/>
          <p:nvPr/>
        </p:nvPicPr>
        <p:blipFill>
          <a:blip r:embed="rId1"/>
          <a:stretch/>
        </p:blipFill>
        <p:spPr>
          <a:xfrm>
            <a:off x="40719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Phases of 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ergy investment ph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eactions #1-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 (reactions #4-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ergy pay-off ph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actions #6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Investment (#1-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ucose undergo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hosphorylation (glucose --&gt; glucose 6-phosph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somerization to fructose (G6P --&gt; fructose 6-phosph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cond phosphorylation (F6P --&gt; fructose 1,6-biphosph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ATP are used to power these re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ext Placeholder 2" descr=""/>
          <p:cNvPicPr/>
          <p:nvPr/>
        </p:nvPicPr>
        <p:blipFill>
          <a:blip r:embed="rId1"/>
          <a:stretch/>
        </p:blipFill>
        <p:spPr>
          <a:xfrm>
            <a:off x="1689120" y="3938760"/>
            <a:ext cx="5764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(#4-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6-carbon molecule is split into two 3-carbon molecules:  glyceraldehyde 3-phosphate (G3P) and dihydroxyacetone phosphate (DHAP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HAP immediately isomerizes into G3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ducts of the cleavage are two G3P molec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Text Placeholder 2" descr=""/>
          <p:cNvPicPr/>
          <p:nvPr/>
        </p:nvPicPr>
        <p:blipFill>
          <a:blip r:embed="rId1"/>
          <a:stretch/>
        </p:blipFill>
        <p:spPr>
          <a:xfrm>
            <a:off x="1689120" y="3938760"/>
            <a:ext cx="5764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(#4-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HAP isomerization (to G3P) catalyzed by enzyme triosephosphate iso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ext Placeholder 2" descr=""/>
          <p:cNvPicPr/>
          <p:nvPr/>
        </p:nvPicPr>
        <p:blipFill>
          <a:blip r:embed="rId1"/>
          <a:stretch/>
        </p:blipFill>
        <p:spPr>
          <a:xfrm>
            <a:off x="4648320" y="2690640"/>
            <a:ext cx="40384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23:28:04Z</dcterms:created>
  <dc:creator>jen</dc:creator>
  <dc:description/>
  <dc:language>en-US</dc:language>
  <cp:lastModifiedBy>rubina khan</cp:lastModifiedBy>
  <dcterms:modified xsi:type="dcterms:W3CDTF">2012-10-18T13:54:43Z</dcterms:modified>
  <cp:revision>125</cp:revision>
  <dc:subject/>
  <dc:title>Slide 1</dc:title>
</cp:coreProperties>
</file>